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3AB1-63F5-4C52-B292-C16436B6E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51BA-29BB-4D66-89C1-C22648735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98720" y="68580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94960" y="6426000"/>
            <a:ext cx="5072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5E0E-361D-44D8-85A7-30F8BB7D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EF600-30B7-429F-BF89-76BE4408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6759-9E89-4E2C-A1E7-9C4D39B7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C85D2-ED98-4BC9-83D9-1B180D49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6B7C-888E-49CC-B905-01EA5106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78F27-382F-488B-8598-6A707A1D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67E1-27AE-4FA7-A496-CD1E1458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0E2D-3B0C-4C24-962B-6B729A8F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FEDC-8340-4E63-813E-4567B701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E015-16D3-49E0-A7B5-F7F37272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757B-7C22-43FD-851F-2EF04D62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C855-E444-4C99-A534-5BEF7C3A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7B0F-3FCE-47B0-AD80-D4C9B5F13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1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ne 13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1007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was utilized for completing outstanding transactions as well as ad hoc testing for two CRs testing bank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New CRs, 3 Existing CRs tested bank changes, and 1 Existing CR changed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Flight - 020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Deadline is 01/16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Kick-Off Conference Call:  01/22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 02/15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ins: 02/18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:  04/01/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38160" y="255600"/>
            <a:ext cx="717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191120" cy="225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cervenka</cp:lastModifiedBy>
  <dcterms:modified xsi:type="dcterms:W3CDTF">2007-11-26T17:25:41Z</dcterms:modified>
  <cp:revision>95</cp:revision>
  <dc:subject/>
  <dc:title>Instructions</dc:title>
</cp:coreProperties>
</file>